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4AE-612D-4B94-9D21-70FD7524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888-D0DA-43C5-895B-7D4D957F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F3C-02F8-477D-A686-91FA71C0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2FD-F685-4B77-A4C5-9A6F6FFD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7F1-0D7A-4F2F-84B1-5C810990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624-4DCB-46B5-9B3D-9EFEDE0E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D22-3DD4-4F8F-8418-5C6F27E2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184-E37D-4A0F-9ED9-94791342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165-7999-4516-8927-74A4341F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F28-EFAF-4347-B29C-BBA4B7E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E05-15F0-4EEB-9E31-F76691D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308-5092-45AA-B045-A6A3813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3B48-3498-49A1-A4C3-9C5FA00F5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7/6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6/15-16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Op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selection criteria / cumulative reliability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CPS performance / Improved QS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llary Service Performance Monitoring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664 NS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665 Respo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CP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RR package on EECP steps and tri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nt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cedures on advisories and RMR dis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Assig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stimator Performance Standard – TAC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metry Criteria – TAC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s of Consistency – joint ROS/TPTF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rricane Rita / Hurricane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7/6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ms Requiring TAC Vote</a:t>
            </a:r>
            <a:br>
              <a:rPr sz="32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RR 179 – Under-Voltage Load Shedding Prot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Estimator Performance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metry Criteri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Above Approved by ROS June 1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360360"/>
            <a:ext cx="883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7/6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xt ROS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gust 10-11 – Regular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Top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EEC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Frequency Bias (TP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pin Deployment (TP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6-30T21:29:03Z</dcterms:modified>
  <cp:revision>16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17213594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TAC presentation</vt:lpwstr>
  </property>
</Properties>
</file>